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DB3-C762-4B7D-A03A-14D9586D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4CB-711B-4F15-8793-78363EDF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CD7-02FB-4D53-804D-BAF0A8B6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B5D-BDB7-448B-A407-94EA8E04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73A-4170-49F8-B1F4-02DDFCBB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239-E84B-4164-88C0-7E822888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F44-DF90-480C-913E-FD5083A4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FDF-6CFF-4BB0-A355-76E09992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E66-A220-4BD3-B488-6ACA0797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59D-E1B0-437F-BFEB-F00FB6CE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09E-F0D7-40A7-988A-15C5810F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C82E-25BB-4203-90B3-20D41395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84BE-FFFD-4058-BB16-0380847D783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troduction to the Baseline Study</a:t>
            </a: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vember 2010 – February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Purpose, key questions and compon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urpose of the 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is baseline study relates to Changes 1, 2 and 3 of the projec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: Wereda, Regional, and/or NGO planners active in study site landscapes ar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ing more effective tools for planning for RM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t landscape scale: (1) Evidence-based (2) Tailored to different social and ecological niches (3) Cross-sectoral (4) Particip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: Those implementing water resource and other agricultural development plans (Wereda and NGO staff) ar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ore effectively implementing RWM plan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: Increase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llective action and institutions for uptake of RMS at farm and community level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and these supported by Wereda, DAs and NGO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urpose of the 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 baseline aims to do three th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ovide a baseline for monitoring progress on the 3 changes, i.e.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 snapshot of the current situation in the study sites in terms of planning, implementation and innovation of RW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dentify actors to involve in woreda learning platfor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cope out key issues, barriers and opportunities to improve planning, implementation and innovation in RWM, to inform the next phase of in-depth action researc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questions -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o is involved in planning rainwater management (which sectors, which levels, government and non-government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is planning coordinated among these actor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 tools and approaches are currently used for plann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are decisions made about rainwater management, e.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ich technologies and land management practices to impl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ere to site interven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to share costs and benef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 say do farmers hav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re upstream/downstream linkages considered in plann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barriers prevent more effective plan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questions -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is responsible for implementing rainwater management at different leve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o different actors coordinate their implement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level of knowledge and understanding do implementers ha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currently being implemented in the sit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es current implementation meet farmers’ nee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support do implementers rece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monitoring / learning / research takes place on rainwater manage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barriers prevent better implement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questions - Inno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 is currently innovating in RW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support do they rece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etworks currently exist and how do they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the scope for organisations to collaborate for more innov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enables successful innov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barriers constrain innov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the 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 analysis (national, regional and wore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cument collection and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views with key informants at woreda and kebel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cus group discussions with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alysis workshop (Feb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port (by April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2:28:10Z</dcterms:created>
  <dc:creator>jtucker</dc:creator>
  <dc:description/>
  <dc:language>en-US</dc:language>
  <cp:lastModifiedBy>jtucker</cp:lastModifiedBy>
  <dcterms:modified xsi:type="dcterms:W3CDTF">2010-11-08T04:27:23Z</dcterms:modified>
  <cp:revision>42</cp:revision>
  <dc:subject/>
  <dc:title>Baseline Study November 2010 – February 2011</dc:title>
</cp:coreProperties>
</file>